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Quantification of 4-hydroxynonenal formation after BDL. Livers were harvested 3 wk after BDL, and sections were stained immunohistochemically to assess 4-hydroxynonenal adduct formation. Ten microscope fields (×10 objective) were selected randomly, and the %stained area was estimated as described in mateirals and methods. </a:t>
            </a:r>
            <a:r>
              <a:rPr b="0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a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P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&lt; 0.05 vs. sham operation; </a:t>
            </a:r>
            <a:r>
              <a:rPr b="0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b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P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&lt; 0.05 vs. BDL with control di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Polyphenols inhibit α-smooth muscle actin formation after BDL. Livers were harvested 3 wk after BDL, and sections were stained immunohistochemically to assess α-SMA. Representative images are shown.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Top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, sham operation with control diet;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middl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, BDL with control diet;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bottom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, BDL with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C. sinenesi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polyphenol-containing diet. Bar is 50 μ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Polyphenols suppress activator protein-1 (AP-1) activation and increased TNF-α and transforming growth factor (TGF)-β mRNA after BDL. Livers were harvested 3 wk after BDL and snap-frozen in liquid nitrogen. The activity of AP-1 was assessed using electrophoretic mobility shift assays, and TNF-α and TGF-β mRNAs were measured by RNase protection assays, as described in materials and methods.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: representative autoradiogram of AP-1/DNA complex.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B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: representative autoradiogram of TGF-β and TNF-α mRNA. L32, ribosomal protein L32.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C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: desitometric analysis of TGF-β1 mRNA. </a:t>
            </a:r>
            <a:r>
              <a:rPr b="0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a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P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&lt; 0.05 vs. sham operation; </a:t>
            </a:r>
            <a:r>
              <a:rPr b="0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b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P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&lt; 0.05 vs. BDL with control di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Molecular structures of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C. sinenesi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polyphenols. Green tea extract contains 85% polyphenols by weight. Composition of polyphenols in green tea extract used is shown as %total polypheno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Polyphenols decrease alanine aminotransferase release after bile duct ligation (BDL). Rats were fed a control chow diet or chow containing 0.1%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C. sinenesi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polyphenols starting 3 days before BDL or sham operation. Blood was collected 1 day (d) and 3 wk (w) after surgery. Values are means ± SE (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= 4–5 in each group). </a:t>
            </a:r>
            <a:r>
              <a:rPr b="0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a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P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&lt; 0.05 vs. sham operation; </a:t>
            </a:r>
            <a:r>
              <a:rPr b="0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b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P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&lt; 0.05 vs. BDL rats fed a control di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Polyphenols decrease histopathological changes after bile duct ligation. Livers were harvested 3 wk after BDL, and hematoxylin and eosin staining was performed to evaluate pathological changes. Shown are representative images: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top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, sham operation with control diet;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middl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, BDL with control diet;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bottom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, BDL with polyphenol-containing diet. Arrows identify necrotic areas. Bar is 200 μ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Polyphenols inhibit cell proliferation after BDL. PCNA was detected by immunohistochemical staining, as described in materials and methods. Ten microscope fields (×40 objective) were selected randomly, and PCNA-positive cells per field were counted. Values are means ± SE (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= 4 in each group). </a:t>
            </a:r>
            <a:r>
              <a:rPr b="0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a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P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&lt; 0.05 vs. sham operation; </a:t>
            </a:r>
            <a:r>
              <a:rPr b="0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b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P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&lt; 0.05 vs. BDL rats fed a control di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Polyphenols minimize hepatic fibrosis after BDL. Livers were harvested 3 wk after BDL, and Sirius red staining of sections was performed. Shown are representative images: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top lef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, sham operation with control diet;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top righ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, BDL with control diet;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bottom lef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, BDL with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C. sinenesi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polyphenol-containing diet;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bottom righ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, BDL with gadolinium chloride (GdCl</a:t>
            </a:r>
            <a:r>
              <a:rPr b="0" lang="en-GB" sz="1200" spc="-1" strike="noStrike" baseline="-33000">
                <a:solidFill>
                  <a:srgbClr val="000000"/>
                </a:solidFill>
                <a:latin typeface="Arial"/>
                <a:ea typeface="msgothic"/>
              </a:rPr>
              <a:t>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) treatment. Bar is 200 μ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Quantification of hepatic fibrosis. Liver sections were stained with Sirius red, as described in Fig. 5. Five microscope fields (×4 objective) were selected randomly, and fractional areas that were Sirius red positive were determined by image analysis, as described in materials and methods. Values are means ± SE (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= 4–5 in each group). </a:t>
            </a:r>
            <a:r>
              <a:rPr b="0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a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P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&lt; 0.05 vs. sham operation; </a:t>
            </a:r>
            <a:r>
              <a:rPr b="0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b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P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&lt; 0.05 vs. BDL with control di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Polyphenols inhibit increased procollagen-α1(I) [Procol-α1(I)] mRNA expression after BDL. Livers were harvested 3 wk after BDL, perfused with normal saline, and frozen in liquid nitrogen. RNase protection assays were performed, as described in materials and methods. Values are means ± SE (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= 3–4 in each group).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: representative autoradiogram of Procol-α1(I) mRNA, GAPDH, sham operation with control diet (sham); sham operation with polyphenol-containing diet (sham + polyphenols), BDL with control diet, and BDL with polyphenol-containing diet (BDL + polyphenols).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B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: densitometric analysis of collagen-α1 mRNA. </a:t>
            </a:r>
            <a:r>
              <a:rPr b="0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a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P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&lt; 0.05 vs. sham operation; </a:t>
            </a:r>
            <a:r>
              <a:rPr b="0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b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P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&lt; 0.05 vs. BDL with control di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Polyphenols inhibit 4-hydroxynonenal formation after BDL. Livers were harvested 3 wk after BDL, and sections were stained immunohistochemically to assess 4-hydroxynonenal adduct formation. Shown are representative images: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top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, sham operation with control diet;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middl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, BDL with control diet;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bottom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, BDL with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C. sinenesi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polyphenol-containing diet. Bar is 100 μ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3980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olyphenols from Camellia sinenesis attenuate experimental cholestasis-induced liver fibrosis in r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9800" y="2259000"/>
            <a:ext cx="8604360" cy="30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y Zhi Zhong, Matthias Froh, Mark Lehnert, Robert Schoonhoven, Liu Yang, Henrik Lind, John J. Lemasters, and Ronald G. Thur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38360" y="5641920"/>
            <a:ext cx="86040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JP - G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Volume 285(5):G1004-G1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October 15,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03 by American Physiological Socie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133960" y="6602400"/>
            <a:ext cx="4467240" cy="71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58920" y="420840"/>
            <a:ext cx="93628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Quantification of 4-hydroxynonenal formation after BDL. Livers were harvested 3 wk after BDL, and sections were stained immunohistochemically to assess 4-hydroxynonenal adduct forma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133960" y="6602400"/>
            <a:ext cx="4467240" cy="7128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033720" y="1079640"/>
            <a:ext cx="4019400" cy="53942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033720" y="6583320"/>
            <a:ext cx="43196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Zhi Zhong et al. Am J Physiol Gastrointest Liver Physiol 2003;285:G1004-G1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03 by American Physiological Socie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olyphenols inhibit α-smooth muscle actin formation after BDL. Livers were harvested 3 wk after BDL, and sections were stained immunohistochemically to assess α-SM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133960" y="6602400"/>
            <a:ext cx="4467240" cy="7128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840120" y="1079640"/>
            <a:ext cx="2406600" cy="53942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840120" y="6583320"/>
            <a:ext cx="43196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Zhi Zhong et al. Am J Physiol Gastrointest Liver Physiol 2003;285:G1004-G1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03 by American Physiological Socie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58920" y="420840"/>
            <a:ext cx="93628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olyphenols suppress activator protein-1 (AP-1) activation and increased TNF-α and transforming growth factor (TGF)-β mRNA after BDL. Livers were harvested 3 wk after BDL and snap-frozen in liquid nitroge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133960" y="6602400"/>
            <a:ext cx="4467240" cy="7128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884760" y="1079640"/>
            <a:ext cx="2315880" cy="53942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884760" y="6583320"/>
            <a:ext cx="43192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Zhi Zhong et al. Am J Physiol Gastrointest Liver Physiol 2003;285:G1004-G1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03 by American Physiological Socie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olecular structures of C. sinenesis polyphenol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133960" y="6602400"/>
            <a:ext cx="4467240" cy="712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571920" y="1079640"/>
            <a:ext cx="2940120" cy="5394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571920" y="6583320"/>
            <a:ext cx="43196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Zhi Zhong et al. Am J Physiol Gastrointest Liver Physiol 2003;285:G1004-G1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03 by American Physiological Socie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olyphenols decrease alanine aminotransferase release after bile duct ligation (BDL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133960" y="6602400"/>
            <a:ext cx="4467240" cy="7128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849400" y="1079640"/>
            <a:ext cx="4384800" cy="5394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849400" y="6583320"/>
            <a:ext cx="43196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Zhi Zhong et al. Am J Physiol Gastrointest Liver Physiol 2003;285:G1004-G1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03 by American Physiological Socie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olyphenols decrease histopathological changes after bile duct liga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133960" y="6602400"/>
            <a:ext cx="4467240" cy="712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902040" y="1079640"/>
            <a:ext cx="2281320" cy="53942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902040" y="6583320"/>
            <a:ext cx="43196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Zhi Zhong et al. Am J Physiol Gastrointest Liver Physiol 2003;285:G1004-G1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03 by American Physiological Socie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olyphenols inhibit cell proliferation after BDL. PCNA was detected by immunohistochemical staining, as described in materials and method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133960" y="6602400"/>
            <a:ext cx="4467240" cy="712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933640" y="1079640"/>
            <a:ext cx="4216320" cy="53942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933640" y="6583320"/>
            <a:ext cx="43196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Zhi Zhong et al. Am J Physiol Gastrointest Liver Physiol 2003;285:G1004-G1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03 by American Physiological Socie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olyphenols minimize hepatic fibrosis after BDL. Livers were harvested 3 wk after BDL, and Sirius red staining of sections was performed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133960" y="6602400"/>
            <a:ext cx="4467240" cy="7128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609560" y="1079640"/>
            <a:ext cx="6866280" cy="5394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609560" y="6583320"/>
            <a:ext cx="43196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Zhi Zhong et al. Am J Physiol Gastrointest Liver Physiol 2003;285:G1004-G1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03 by American Physiological Socie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Quantification of hepatic fibrosi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133960" y="6602400"/>
            <a:ext cx="4467240" cy="7128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995560" y="1079640"/>
            <a:ext cx="4094280" cy="53942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995560" y="6583320"/>
            <a:ext cx="43196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Zhi Zhong et al. Am J Physiol Gastrointest Liver Physiol 2003;285:G1004-G1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03 by American Physiological Socie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olyphenols inhibit increased procollagen-α1(I) [Procol-α1(I)] mRNA expression after BDL. Livers were harvested 3 wk after BDL, perfused with normal saline, and frozen in liquid nitroge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133960" y="6602400"/>
            <a:ext cx="4467240" cy="7128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635280" y="1079640"/>
            <a:ext cx="2814840" cy="53942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635280" y="6583320"/>
            <a:ext cx="43196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Zhi Zhong et al. Am J Physiol Gastrointest Liver Physiol 2003;285:G1004-G1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03 by American Physiological Socie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420840"/>
            <a:ext cx="93628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olyphenols inhibit 4-hydroxynonenal formation after BDL. Livers were harvested 3 wk after BDL, and sections were stained immunohistochemically to assess 4-hydroxynonenal adduct forma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133960" y="6602400"/>
            <a:ext cx="4467240" cy="7128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884760" y="1079640"/>
            <a:ext cx="2315880" cy="53942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884760" y="6583320"/>
            <a:ext cx="43192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Zhi Zhong et al. Am J Physiol Gastrointest Liver Physiol 2003;285:G1004-G1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03 by American Physiological Socie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