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uminal catecholamine (CA) concentrations in the cecum of specific pathogen-free (SPF) mice. A representative of chromatogram data of luminal contents of the cecum is shown. Peaks NE, E and DA indicate norepinephrine, epinephrine, and dopamine, respective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uminal and tissue CA concentration in the gastrointestinal tract of SPF mice. Lumina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11–15;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tissue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8;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A levels were measured by the method described in methods. Open and closed circles show NE (left vertical axis) and DA (right vertical axis) levels, respectively. </a:t>
            </a:r>
            <a:r>
              <a:rPr b="0" i="1" lang="en-GB" sz="1200" spc="-1" strike="noStrike">
                <a:solidFill>
                  <a:srgbClr val="000000"/>
                </a:solidFill>
                <a:latin typeface="Arial"/>
                <a:ea typeface="msgothic"/>
              </a:rPr>
              <a:t>***</a:t>
            </a:r>
            <a:r>
              <a:rPr b="0" lang="en-GB" sz="1200" spc="-1" strike="noStrike">
                <a:solidFill>
                  <a:srgbClr val="000000"/>
                </a:solidFill>
                <a:latin typeface="Arial"/>
                <a:ea typeface="msgothic"/>
              </a:rPr>
              <a:t>Significantly higher than the corresponding ileum valu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ree, glucuronide, and sulfate-conjugated CA in the gut lumen of SPF mice. Luminal glucuronide- and sulfate-conjugated DA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r NE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levels in the ileum, cecum, and colon were analyzed by the methods described in methods. The mean value of each form of CA is expressed as a percentage of the total (free CA + conjugated CA). The open, closed, and dotted bars show free, glucuronide-, and sulfate-conjugated CA, respective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ecal free CA levels in the lumen and tissue of SPF and germ-free (GF) mice. Luminal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tissue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8;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free CA levels in the SPF mice and GF mice were measured as described in methods. Luminal NE levels (left vertical axis) in the SPF and GF mice were 35 ± 5*** ng/g and 3.8 ± 1.3 ng/g, respectively; luminal DA levels (right vertical axis) in the SPF and GF mice were 115 ± 14*** ng/g and 5.0 ± 0.5 ng/g, respectively. ***Significantly higher than the corresponding GF value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 Tissue NE levels (left vertical axis) in the SPF and GF mice were 310 ± 24 ng/g and 290 ± 19 ng/g, respectively; tissue DA levels (right vertical axis) in the SPF and GF mice were 25 ± 4 ng/g and 22 ± 3 ng/g, respective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ree glucuronide- and sulfate-conjugated CA in the gut lumen of GF mice. Luminal glucuronide- and sulfate-conjugated DA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or N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levels in the ileum, cecum, and colon were analyzed according to the methods described in methods. The mean value of each form of CA is expressed as a percentage of the total (free CA + conjugated CA). The open, closed, and dotted bars show free, glucuronide-conjugated, and sulfate-conjugated CA, respective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uminal free CA levels and β-glucuronidase (GUS) activity in the cecum of gnotobiotic mic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cecal luminal contents from EX-GF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 and </a:t>
            </a:r>
            <a:r>
              <a:rPr b="0" i="1" lang="en-GB" sz="1200" spc="-1" strike="noStrike">
                <a:solidFill>
                  <a:srgbClr val="000000"/>
                </a:solidFill>
                <a:latin typeface="Arial"/>
                <a:ea typeface="msgothic"/>
              </a:rPr>
              <a:t>Clostridia</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6)-associated mice were processed for free NE and DA measurement, as described in methods. Free NE concentrations in the GF, EX-GF, and </a:t>
            </a:r>
            <a:r>
              <a:rPr b="0" i="1" lang="en-GB" sz="1200" spc="-1" strike="noStrike">
                <a:solidFill>
                  <a:srgbClr val="000000"/>
                </a:solidFill>
                <a:latin typeface="Arial"/>
                <a:ea typeface="msgothic"/>
              </a:rPr>
              <a:t>Clostridia</a:t>
            </a:r>
            <a:r>
              <a:rPr b="0" lang="en-GB" sz="1200" spc="-1" strike="noStrike">
                <a:solidFill>
                  <a:srgbClr val="000000"/>
                </a:solidFill>
                <a:latin typeface="Arial"/>
                <a:ea typeface="msgothic"/>
              </a:rPr>
              <a:t>-mice were 2.6 ± 0.3 ng/g, 18 ± 1 ng/g***, and 27 ± 3 ng/g***; free DA concentrations were 16.3 ± 0.7 ng/g, 120 ± 16 ng/g***, and 114 ± 10 ng/g***.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 was significantly higher than the corresponding GF value.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ecal luminal contents of GF, EX-GF, and </a:t>
            </a:r>
            <a:r>
              <a:rPr b="0" i="1" lang="en-GB" sz="1200" spc="-1" strike="noStrike">
                <a:solidFill>
                  <a:srgbClr val="000000"/>
                </a:solidFill>
                <a:latin typeface="Arial"/>
                <a:ea typeface="msgothic"/>
              </a:rPr>
              <a:t>Clostridia</a:t>
            </a:r>
            <a:r>
              <a:rPr b="0" lang="en-GB" sz="1200" spc="-1" strike="noStrike">
                <a:solidFill>
                  <a:srgbClr val="000000"/>
                </a:solidFill>
                <a:latin typeface="Arial"/>
                <a:ea typeface="msgothic"/>
              </a:rPr>
              <a:t>-associated mice were subjected to the measurement of GUS activity, as described in methods. GUS activity in the GF, EX-GF, and </a:t>
            </a:r>
            <a:r>
              <a:rPr b="0" i="1" lang="en-GB" sz="1200" spc="-1" strike="noStrike">
                <a:solidFill>
                  <a:srgbClr val="000000"/>
                </a:solidFill>
                <a:latin typeface="Arial"/>
                <a:ea typeface="msgothic"/>
              </a:rPr>
              <a:t>Clostridia</a:t>
            </a:r>
            <a:r>
              <a:rPr b="0" lang="en-GB" sz="1200" spc="-1" strike="noStrike">
                <a:solidFill>
                  <a:srgbClr val="000000"/>
                </a:solidFill>
                <a:latin typeface="Arial"/>
                <a:ea typeface="msgothic"/>
              </a:rPr>
              <a:t>-mice were 6 ± 0.3 μg PheP·h</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mg protein</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110 ± 8 μg PheP·h</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mg protein</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and 173 ± 16 μg PheP·h</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mg protein</a:t>
            </a:r>
            <a:r>
              <a:rPr b="0" lang="en-GB" sz="1200" spc="-1" strike="noStrike" baseline="33000">
                <a:solidFill>
                  <a:srgbClr val="000000"/>
                </a:solidFill>
                <a:latin typeface="Arial"/>
                <a:ea typeface="msgothic"/>
              </a:rPr>
              <a:t>−1</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1 was significantly higher than the corresponding GF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ree, glucuronide- and sulfate-conjugated CA in the cecal lumen of the mice colonized with E. coli mutant strain JW1609 or its parent strain BW25113. The cecal contents were subjected to the measurement of free, glucuronide-conjugated, and sulfate-conjugated NE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DA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levels 4 wk after exposure to E. coli mutant strain devoid of GUS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 JW1609: ΔGUS) or its parent strain (</a:t>
            </a:r>
            <a:r>
              <a:rPr b="0" i="1" lang="en-GB" sz="1200" spc="-1" strike="noStrike">
                <a:solidFill>
                  <a:srgbClr val="000000"/>
                </a:solidFill>
                <a:latin typeface="Arial"/>
                <a:ea typeface="msgothic"/>
              </a:rPr>
              <a:t>n</a:t>
            </a:r>
            <a:r>
              <a:rPr b="0" lang="en-GB" sz="1200" spc="-1" strike="noStrike">
                <a:solidFill>
                  <a:srgbClr val="000000"/>
                </a:solidFill>
                <a:latin typeface="Arial"/>
                <a:ea typeface="msgothic"/>
              </a:rPr>
              <a:t> = 5, BW25113). The GF and SPF data shown in this figure are identical with ones shown in Tables 1 and 2. The mean value of each form of CA is expressed as a percentage of the total (free CA + conjugated CA). The open, closed, and dotted bars show free, glucuronide-conjugated, and sulfate-conjugated CA, respective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ritical role of gut microbiota in the production of biologically active, free catecholamines in the gut lumen of mic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Yasunari Asano, Tetsuya Hiramoto, Ryo Nishino, Yuji Aiba, Tae Kimura, Kazufumi Yoshihara, Yasuhiro Koga, and Nobuyuki Sudo</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G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03(11):G1288-G129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December 1, 201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uminal catecholamine (CA) concentrations in the cecum of specific pathogen-free (SPF) mi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100320" y="1079640"/>
            <a:ext cx="3884760" cy="5394240"/>
          </a:xfrm>
          <a:prstGeom prst="rect">
            <a:avLst/>
          </a:prstGeom>
          <a:ln w="0">
            <a:noFill/>
          </a:ln>
        </p:spPr>
      </p:pic>
      <p:sp>
        <p:nvSpPr>
          <p:cNvPr id="49" name=""/>
          <p:cNvSpPr/>
          <p:nvPr/>
        </p:nvSpPr>
        <p:spPr>
          <a:xfrm>
            <a:off x="31003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uminal and tissue CA concentration in the gastrointestinal tract of SPF mic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2631960" y="1079640"/>
            <a:ext cx="4822920" cy="5394240"/>
          </a:xfrm>
          <a:prstGeom prst="rect">
            <a:avLst/>
          </a:prstGeom>
          <a:ln w="0">
            <a:noFill/>
          </a:ln>
        </p:spPr>
      </p:pic>
      <p:sp>
        <p:nvSpPr>
          <p:cNvPr id="54" name=""/>
          <p:cNvSpPr/>
          <p:nvPr/>
        </p:nvSpPr>
        <p:spPr>
          <a:xfrm>
            <a:off x="2631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ree, glucuronide, and sulfate-conjugated CA in the gut lumen of SPF mice.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2903400" y="1079640"/>
            <a:ext cx="4276800" cy="5394240"/>
          </a:xfrm>
          <a:prstGeom prst="rect">
            <a:avLst/>
          </a:prstGeom>
          <a:ln w="0">
            <a:noFill/>
          </a:ln>
        </p:spPr>
      </p:pic>
      <p:sp>
        <p:nvSpPr>
          <p:cNvPr id="59" name=""/>
          <p:cNvSpPr/>
          <p:nvPr/>
        </p:nvSpPr>
        <p:spPr>
          <a:xfrm>
            <a:off x="29034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ecal free CA levels in the lumen and tissue of SPF and germ-free (GF) mice.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2900520" y="1079640"/>
            <a:ext cx="4286160" cy="5394240"/>
          </a:xfrm>
          <a:prstGeom prst="rect">
            <a:avLst/>
          </a:prstGeom>
          <a:ln w="0">
            <a:noFill/>
          </a:ln>
        </p:spPr>
      </p:pic>
      <p:sp>
        <p:nvSpPr>
          <p:cNvPr id="64" name=""/>
          <p:cNvSpPr/>
          <p:nvPr/>
        </p:nvSpPr>
        <p:spPr>
          <a:xfrm>
            <a:off x="29005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ree glucuronide- and sulfate-conjugated CA in the gut lumen of GF mic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2955960" y="1079640"/>
            <a:ext cx="4172040" cy="5394240"/>
          </a:xfrm>
          <a:prstGeom prst="rect">
            <a:avLst/>
          </a:prstGeom>
          <a:ln w="0">
            <a:noFill/>
          </a:ln>
        </p:spPr>
      </p:pic>
      <p:sp>
        <p:nvSpPr>
          <p:cNvPr id="69" name=""/>
          <p:cNvSpPr/>
          <p:nvPr/>
        </p:nvSpPr>
        <p:spPr>
          <a:xfrm>
            <a:off x="29559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uminal free CA levels and β-glucuronidase (GUS) activity in the cecum of gnotobiotic mi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2646360" y="1079640"/>
            <a:ext cx="4792680" cy="5394240"/>
          </a:xfrm>
          <a:prstGeom prst="rect">
            <a:avLst/>
          </a:prstGeom>
          <a:ln w="0">
            <a:noFill/>
          </a:ln>
        </p:spPr>
      </p:pic>
      <p:sp>
        <p:nvSpPr>
          <p:cNvPr id="74" name=""/>
          <p:cNvSpPr/>
          <p:nvPr/>
        </p:nvSpPr>
        <p:spPr>
          <a:xfrm>
            <a:off x="26463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ree, glucuronide- and sulfate-conjugated CA in the cecal lumen of the mice colonized with E. coli mutant strain JW1609 or its parent strain BW25113.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2867040" y="1079640"/>
            <a:ext cx="4351320" cy="5394240"/>
          </a:xfrm>
          <a:prstGeom prst="rect">
            <a:avLst/>
          </a:prstGeom>
          <a:ln w="0">
            <a:noFill/>
          </a:ln>
        </p:spPr>
      </p:pic>
      <p:sp>
        <p:nvSpPr>
          <p:cNvPr id="79" name=""/>
          <p:cNvSpPr/>
          <p:nvPr/>
        </p:nvSpPr>
        <p:spPr>
          <a:xfrm>
            <a:off x="28670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Yasunari Asano et al. Am J Physiol Gastrointest Liver Physiol 2012;303:G1288-G1295</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12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