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urnal oscillation in liver glycogen content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mice were fed a control (black symbols) or ethanol-containing (gray symbols) diet for 5 wk, and livers were collected every 4 h at ZT 3, 7, 11, 15, 19, and 23 to determine liver glycogen content. Mice were housed under a standard 12:12-h light-dark cycle where ZT 0 equals lights on (white bar) and ZT 12 equals lights off (black bar and gray shading). Data were fitted to a cosine curve and expressed as means ± SE f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4 mice per group per time point. Results are from 2-factor ANOVA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cosinor analysis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urnal oscillation in liver glycogen synthase activity and related genes and proteins. Gene expression of glycogen synthase 1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YS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glycogen synthase 2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YS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and glycogen synthase kinase 3 beta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SK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β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was determined in livers from control (black symbols) and ethanol-fed (gray symbols) mice at ZT 3, 7, 11, 15, 19, and 23. Expression was normalized to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APD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RNA level and displayed as a fold change from control trough. Western blot analyses of GS1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GS2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phospho-GS1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phospho-GS2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phospho-AKT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and phospho-GSK3β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were examined. Data are from densitometry analysis with results fitted to a cosine curve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J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: representative Western blots of samples from livers of control and ethanol-fed mice. Samples were loaded in duplicate across the gel. Blots are shown for total and phosphorylated proteins with loading controls (β-actin or GAPDH) provided for each. There were no significant effects of time for loading controls. There was a small effect of ethanol (a 14% decrease from control) for GAPDH on total AKT blots. Hepatic GS activity was measured in the absenc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presenc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of 10 mM glucose-6-phosphate (G6P). Mice were housed under a standard 12:12-h light-dark cycle where ZT 0 equals lights on (white bar) and ZT 12 equals lights off (black bar and gray shading). Data are expressed as means ± SE f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4–6 mice per group per time point. Solid lines indicate a significant cosine curve fit, whereas dashed lines indicate a nonsignificant 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urnal oscillation in liver glycogen phosphorylase gene expression and activity. Livers of mice fed a control (black symbols) or ethanol-containing (gray symbols) diet for 5 wk were collected at ZT 3, 7, 11, 15, 19, and 23 for determination of glycogen phosphorylase gene expression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YG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enzyme activities (GP) measured in the absenc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and presence of 3 mM 5′-AMP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Data presented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–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were fitted to a cosine curve and expressed as means ± SE f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4–6 mice per group per time point. Gene expression levels were normalized to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APD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RNA levels and displayed as a fold change from control trough. Mice were housed under a standard 12:12-h light-dark cycle where ZT 0 equals lights on (white bar) and ZT 12 equals lights off (black bar and gray shading). Solid lines indicate a significant cosine curve fit, whereas dashed lines indicate a nonsignificant 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iurnal oscillation in glycogen particle and glucose metabolism genes. Mice were a fed control (black symbols) or ethanol-containing (gray symbols) diet for 5 wk, and liver gene expression was examined at ZT 3, 7, 11, 15, 19, and 23 h for glycogenin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Y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protein phosphatase 1 regulatory subunit 3C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PP1R3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glucose transporter 1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LUT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glucose transporter 2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LUT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glucokina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C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, and pyruvate kinase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KL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). Data were fitted to a cosine curve and expressed as means ± SE f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= 4–6 mice per group per time point. Gene expression levels were normalized to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GAPD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mRNA levels and displayed as fold change from control trough. Mice were housed under a standard 12:12-h light-dark cycle where ZT 0 equals lights on (white bar) and ZT 12 equals lights off (black bar and gray shading). Solid lines indicate a significant cosine curve fit, whereas dashed lines indicate a nonsignificant 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ronic ethanol consumption disrupts diurnal rhythms of hepatic glycogen metabolism in m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Uduak S. Udoh, Telisha M. Swain, Ashley N. Filiano, Karen L. Gamble, Martin E. Young, and Shannon M. Bai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JP - 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08(11):G964-G9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ne 1,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urnal oscillation in liver glycogen con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39800" y="1836720"/>
            <a:ext cx="8604360" cy="387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duak S. Udoh et al. Am J Physiol Gastrointest Liver Physiol 2015;308:G964-G9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urnal oscillation in liver glycogen synthase activity and related genes and protei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14680" y="1079640"/>
            <a:ext cx="305604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1468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duak S. Udoh et al. Am J Physiol Gastrointest Liver Physiol 2015;308:G964-G9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urnal oscillation in liver glycogen phosphorylase gene expression and activ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9800" y="2368440"/>
            <a:ext cx="8604360" cy="281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duak S. Udoh et al. Am J Physiol Gastrointest Liver Physiol 2015;308:G964-G9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urnal oscillation in glycogen particle and glucose metabolism ge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33960" y="6602400"/>
            <a:ext cx="4467240" cy="712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77840" y="1079640"/>
            <a:ext cx="7927920" cy="5394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778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duak S. Udoh et al. Am J Physiol Gastrointest Liver Physiol 2015;308:G964-G9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5 by American Physiological Socie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